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515-A432-4944-B5F6-B0685C3D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D3E-3190-4B71-BB37-7AD1833E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3C4-5983-454F-95B4-28EBE1CA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2CD-ADF3-41C6-B0A3-67A503BC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0D2-0345-473A-8167-3C9EAB89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BBC-8BDD-49E0-A177-D1214767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0C8-C5AE-4E9D-9DE0-6FCFC844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7EF-A1F3-4D2F-8EA3-722F806D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011-B5C2-4C3F-A134-0B410ED7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4D4-BCDC-4B71-A0C7-482C5235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1BA-E8A2-4CB6-A3E3-717976CB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D22-7CFF-4C57-90FE-B59BD056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2C17-EB47-4975-81FE-6929E9E6C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Történelem vizsga képe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truszk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rajzon Dzsószer fáraó piramisának főbb lépései áll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Huni piramisának maradványai láthatók. Ez volt az első piramis, mely úgy nézett ki, mint ahogy a piramisok általában (négyzet alapú gúla). Úgy készült, hogy egy lépcsőzetes piramis közeit kitöltötték. Sajnos nem volt túl időtáll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rajzon Huni piramisának felépítése látható, és az, hogy mára mi maradt meg belő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3 téglapiramis (Kheopsz, Khefrén, Mükerinosz) látható. Látszik, hogy ez a fajta felépítés milyen időtálló vo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a kanópuszok láthatók. A mumifikálás során ezekbe tették a halott belső szerve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sólyomfedelűbe a BELEKET, a sakálfedelűbe a GYOMROT, a majomfedelűbe a TÜDŐT, az emberfedelűbe a MÁJAT tetté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03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örög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m találtam jó képeket, csak ásatásokró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403848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24280" y="2286000"/>
            <a:ext cx="396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óma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ómai ásatások, feltárás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egy etruszk sír látható. Sajnos etruszk sírokból kevés maradt m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rómaiak szerettek az utak, legfőképpen a Via Appia mellé temetkezni. Néhány (sőt, nem is néhány, mivel nagyon sok volt) sír megmaradt, ezekről gyűjtöttem képe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24280" y="1447920"/>
            <a:ext cx="3962520" cy="2168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724280" y="365760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57200" y="3733920"/>
            <a:ext cx="3962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erzsa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Naqsh-e Rostam, I. Dareiosz perzsa király síremléke látható. A síremlék Perszepolisz közelében talál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Úgyszintén, csak más nézőpontbó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214128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343400" y="242424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Petra látható. (NEM AZONOS AZ  OSZTÁLYTÁRSUNKKA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457280"/>
            <a:ext cx="82296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rdániában talál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452600"/>
            <a:ext cx="82296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m csak királyi temetkezési hely volt, hanem egy város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465200"/>
            <a:ext cx="82296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3 síremléket a sziklába vájtá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479600"/>
            <a:ext cx="8229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Petra rejtett bejárata látható. A síremléket csak 1812–ben fedezték fel, azelőtt csak a helyi lakosok tudtak róla, bár elvileg valamikor keresztes lovagok is jártak o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12880" y="1523880"/>
            <a:ext cx="3710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ezopotámia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egy etruszk sír belseje látható. Látszik, hogy rajzokkal díszítették a sírokat, de olyan sírfeliratokat, mint amelyek az egyiptomiaknál voltak, nem alkalmazt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az Ur-zikkurat számítógépes rekonstrukciója láth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1481040"/>
            <a:ext cx="73911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a sír aljába vezető út lát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68360" y="1447920"/>
            <a:ext cx="4562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a sír felső része látható. Látszik a tágas hely, ez egy királyi sír vo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446120"/>
            <a:ext cx="82296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Vé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15 0.05433 C 0.05851 0.05503 0.02986 0.05456 0.00139 0.05641 C -0.0026 0.05664 -0.0059 0.06127 -0.00972 0.06289 C -0.03056 0.07121 -0.04983 0.08439 -0.06528 0.10497 C -0.06788 0.11352 -0.07101 0.12162 -0.07326 0.1304 C -0.07222 0.14636 -0.075 0.17664 -0.06372 0.19167 C -0.05573 0.20231 -0.02569 0.21179 -0.01458 0.21503 C 0.00035 0.21942 0.01493 0.22589 0.02986 0.22982 C 0.04497 0.23375 0.06076 0.23375 0.07604 0.23607 C 0.12222 0.25433 0.17378 0.24138 0.22205 0.24462 C 0.23976 0.24855 0.25382 0.25364 0.27274 0.25734 C 0.27934 0.26173 0.28524 0.26797 0.29184 0.27214 C 0.29983 0.27699 0.31181 0.28162 0.32049 0.28485 C 0.32604 0.29225 0.33229 0.2941 0.33628 0.30381 C 0.34184 0.31745 0.34844 0.33688 0.35052 0.35237 C 0.35278 0.36971 0.35208 0.38682 0.35694 0.40323 C 0.35642 0.40809 0.35642 0.41318 0.35538 0.41803 C 0.35365 0.4252 0.34618 0.42936 0.34271 0.43491 C 0.33281 0.45063 0.3474 0.43167 0.33316 0.44531 C 0.32118 0.45688 0.3349 0.4474 0.32361 0.45595 C 0.31476 0.46266 0.3033 0.46451 0.2934 0.46659 C 0.26649 0.46589 0.23941 0.46589 0.2125 0.46451 C 0.20417 0.46404 0.19149 0.44485 0.18715 0.43907 C 0.18559 0.43699 0.18229 0.43283 0.18229 0.43306 C 0.18472 0.39861 0.18247 0.36878 0.2125 0.36092 C 0.22795 0.34913 0.2408 0.34636 0.25851 0.34404 C 0.26476 0.34427 0.34774 0.33387 0.37917 0.35653 C 0.40156 0.37271 0.37743 0.35907 0.39653 0.36925 C 0.40243 0.37711 0.40972 0.38011 0.41563 0.38844 C 0.41458 0.41942 0.4151 0.45063 0.4125 0.48138 C 0.4125 0.48231 0.3974 0.49202 0.39497 0.4941 C 0.38819 0.49988 0.38229 0.50913 0.37431 0.51098 C 0.35608 0.51491 0.33802 0.52624 0.32049 0.5341 C 0.31528 0.53641 0.31128 0.54034 0.30608 0.54266 C 0.2901 0.55676 0.31667 0.53387 0.2934 0.55121 C 0.2875 0.5556 0.28403 0.56092 0.2776 0.5637 C 0.26372 0.57873 0.24722 0.58844 0.23628 0.60809 C 0.22882 0.63861 0.23212 0.62034 0.23472 0.68 C 0.2349 0.6837 0.23524 0.6874 0.23628 0.69063 C 0.23785 0.69526 0.24063 0.69919 0.24271 0.70335 C 0.24792 0.71352 0.24427 0.71167 0.24896 0.72439 C 0.2526 0.73433 0.26128 0.73988 0.26493 0.74982 C 0.26892 0.76069 0.26615 0.75653 0.27274 0.76254 C 0.28438 0.78451 0.3 0.80092 0.31406 0.81965 C 0.32413 0.83306 0.31597 0.82797 0.32517 0.83237 C 0.32969 0.84162 0.33663 0.84231 0.34271 0.84925 C 0.35122 0.85896 0.35955 0.86797 0.36962 0.87445 C 0.37986 0.88878 0.36319 0.86705 0.37917 0.88092 C 0.39358 0.89341 0.37118 0.88231 0.38715 0.88925 C 0.39878 0.9052 0.38438 0.88763 0.39826 0.8978 C 0.40816 0.90497 0.41042 0.91144 0.42049 0.91468 C 0.43056 0.92485 0.4408 0.93479 0.45208 0.94219 E">
                                      <p:cBhvr>
                                        <p:cTn id="26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gyiptom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egy tumulus (halomsír) látható. Jól látható a kőkerítés, mely megakadályozta a föld lecsúszásá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rajzon egy egyiptomi masztaba látható. Jól szemlélteti a jellegzetes téglaformát, mely elüt a tumulus kerek felépítésétő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egy masztaba szerkezeti rajza lát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Dzsószer fáraó (III. dinasztia) lépcsőzetes piramisa látható. Ez volt az első piramis, bár tulajdonképpen több egymásra helyezett masztabából á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Ezen a képen is Dzsószer fáraó piramisa lát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07:49:22Z</dcterms:created>
  <dc:creator>csongor</dc:creator>
  <dc:description/>
  <dc:language>en-US</dc:language>
  <cp:lastModifiedBy>csongor</cp:lastModifiedBy>
  <dcterms:modified xsi:type="dcterms:W3CDTF">2011-05-09T19:20:1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